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3117-1E89-4A4B-973C-11CF7DFD1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CCBA-E166-4A4A-9DC8-B8EB7E5BD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3D94-F758-4A92-A7D9-1BC940386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6AC6-5D76-44A4-BFAC-B5B47A831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67AD-4C0A-4AED-9BA5-B24C1045D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553C-E4A2-475C-89A7-7194F0759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FE4B-C9F4-4CFF-AB56-6B6E9FF8C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7121-3A6B-4E59-A482-682CE96F8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8429-1B8D-4914-BF35-12BFBDFA1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6FFF-A710-41BA-96A9-F2067B67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DCBE-103E-4FDB-AC7C-1F2B95BA2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98EA-9E56-4D07-AC6F-E0B9733D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CCA3D-0EC5-426F-A313-E644867CB7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640080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557360"/>
            <a:ext cx="8497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) to read a text explaining holiday pre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) to learn about the use of key subjunctive phr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) To revise formation of the condi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) To describe your own holiday pre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900000" y="620640"/>
          <a:ext cx="7848720" cy="3403800"/>
        </p:xfrm>
        <a:graphic>
          <a:graphicData uri="http://schemas.openxmlformats.org/drawingml/2006/table">
            <a:tbl>
              <a:tblPr/>
              <a:tblGrid>
                <a:gridCol w="3924360"/>
                <a:gridCol w="39243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Kristen ITC"/>
                          <a:ea typeface="Times New Roman"/>
                        </a:rPr>
                        <a:t>Span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Kristen ITC"/>
                          <a:ea typeface="Times New Roman"/>
                        </a:rPr>
                        <a:t>English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Kristen ITC"/>
                          <a:ea typeface="Times New Roman"/>
                        </a:rPr>
                        <a:t>Si pudiera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Kristen ITC"/>
                          <a:ea typeface="Times New Roman"/>
                        </a:rPr>
                        <a:t>If I cou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Kristen ITC"/>
                          <a:ea typeface="Times New Roman"/>
                        </a:rPr>
                        <a:t>Si fuera posible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Kristen ITC"/>
                          <a:ea typeface="Times New Roman"/>
                        </a:rPr>
                        <a:t>If it were possib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Kristen ITC"/>
                          <a:ea typeface="Times New Roman"/>
                        </a:rPr>
                        <a:t>Cuando sea may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Kristen ITC"/>
                          <a:ea typeface="Times New Roman"/>
                        </a:rPr>
                        <a:t>When I am old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Kristen ITC"/>
                          <a:ea typeface="Times New Roman"/>
                        </a:rPr>
                        <a:t>Quisie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Kristen ITC"/>
                          <a:ea typeface="Times New Roman"/>
                        </a:rPr>
                        <a:t>I would lik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Kristen ITC"/>
                          <a:ea typeface="Times New Roman"/>
                        </a:rPr>
                        <a:t>Si tuviera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Kristen ITC"/>
                          <a:ea typeface="Times New Roman"/>
                        </a:rPr>
                        <a:t>If I h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Kristen ITC"/>
                          <a:ea typeface="Times New Roman"/>
                        </a:rPr>
                        <a:t>Ojala + subjuntivo form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Kristen ITC"/>
                          <a:ea typeface="Times New Roman"/>
                        </a:rPr>
                        <a:t>( pudiera/ganara/tuviera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Kristen ITC"/>
                          <a:ea typeface="Times New Roman"/>
                        </a:rPr>
                        <a:t>I wis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611280" y="4292640"/>
            <a:ext cx="81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*Most of the time these sentences can be followed by conditional ten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member the conditional form is made by the full verb in infinitive followed by  ia and then the personal e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9640" y="189000"/>
            <a:ext cx="78487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di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dependent on a condition being met for it to come 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e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d the infinitive e.g. 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d the appropriate e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403280" y="3429000"/>
          <a:ext cx="5329080" cy="3111480"/>
        </p:xfrm>
        <a:graphic>
          <a:graphicData uri="http://schemas.openxmlformats.org/drawingml/2006/table">
            <a:tbl>
              <a:tblPr/>
              <a:tblGrid>
                <a:gridCol w="1512720"/>
                <a:gridCol w="3816360"/>
              </a:tblGrid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Í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Í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Í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/ she / it / you (polit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Íam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Ía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(plura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í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 / you (plural, polit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6877080" y="4005360"/>
            <a:ext cx="205092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i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ía =      I would 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1332000" y="765000"/>
          <a:ext cx="6264360" cy="2733840"/>
        </p:xfrm>
        <a:graphic>
          <a:graphicData uri="http://schemas.openxmlformats.org/drawingml/2006/table">
            <a:tbl>
              <a:tblPr/>
              <a:tblGrid>
                <a:gridCol w="1654200"/>
                <a:gridCol w="2273040"/>
                <a:gridCol w="23371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Infini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ean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te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eci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To sa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i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hac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To do / mak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h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od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To be able 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od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on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To p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ond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quer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To wa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quer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1332000" y="3543480"/>
          <a:ext cx="6264360" cy="3008160"/>
        </p:xfrm>
        <a:graphic>
          <a:graphicData uri="http://schemas.openxmlformats.org/drawingml/2006/table">
            <a:tbl>
              <a:tblPr/>
              <a:tblGrid>
                <a:gridCol w="1655640"/>
                <a:gridCol w="2232000"/>
                <a:gridCol w="2376720"/>
              </a:tblGrid>
              <a:tr h="80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ab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To know (fac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ab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ali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To go o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ald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ten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To ha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tend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veni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To co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vend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hab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There will b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habrá (only exampl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250920" y="189000"/>
            <a:ext cx="244944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irregul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68360" y="476280"/>
            <a:ext cx="799128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1. ¿Preferirías alojarte en un camping o en un hotel?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¿Por qué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2. Si tuvieras mucho dinero, ¿adónde irías de vacaciones? ¿Por qué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3. Si pudieras, ¿cómo viajarías de vacaciones, y por qué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4. Si tuvieras la opción, preferirías de vacaciones con tus padres o con tus amigos? ¿Por qué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11:52:08Z</dcterms:created>
  <dc:creator>Owner1</dc:creator>
  <dc:description/>
  <dc:language>en-US</dc:language>
  <cp:lastModifiedBy>Owner1</cp:lastModifiedBy>
  <dcterms:modified xsi:type="dcterms:W3CDTF">2008-11-27T13:05:15Z</dcterms:modified>
  <cp:revision>3</cp:revision>
  <dc:subject/>
  <dc:title>Slide 1</dc:title>
</cp:coreProperties>
</file>